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6 Cars and B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wenty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rty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went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irty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u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共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axi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租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k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w do you 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…by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ar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汽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rcRect l="0" t="0" r="0" b="7015"/>
          <a:stretch/>
        </p:blipFill>
        <p:spPr>
          <a:xfrm>
            <a:off x="685800" y="533520"/>
            <a:ext cx="7620120" cy="4038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us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公共汽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7273"/>
          <a:stretch/>
        </p:blipFill>
        <p:spPr>
          <a:xfrm>
            <a:off x="762120" y="304920"/>
            <a:ext cx="7095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axi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出租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848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ike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3279"/>
          <a:stretch/>
        </p:blipFill>
        <p:spPr>
          <a:xfrm>
            <a:off x="304920" y="380880"/>
            <a:ext cx="8610480" cy="4496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go to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213336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school by b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25909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怎样去上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骑自行车去上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60020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the zo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362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zoo by tax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42900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怎样去动物园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乘出租车去动物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go to the restaur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00600" y="50288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638680"/>
            <a:ext cx="3962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怎样去餐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开车去餐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go h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04920" y="5257440"/>
            <a:ext cx="46483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home by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257800"/>
            <a:ext cx="297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怎样回家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乘坐公共汽车回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04:45:32Z</dcterms:created>
  <dc:creator/>
  <dc:description/>
  <dc:language>en-US</dc:language>
  <cp:lastModifiedBy/>
  <dcterms:modified xsi:type="dcterms:W3CDTF">2018-08-18T03:11:5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